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028-D669-48BC-A330-DC50D72D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A50-55FB-4C3F-B9D0-10309DB2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663-BF10-4AAC-974C-74A2593D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60F-BB2A-49F6-A135-23F8C2C3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370-EE0D-4078-AC76-FCF5C69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C0E-F262-4B39-A0C3-0B27AC34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F07-E14F-487F-B7E8-2AC55AE4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D70-6205-49BA-865B-B7C38B3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716-301A-4A01-816F-50AC4977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5B9-E6CF-4677-BAC7-B45A4A00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BA2-00B6-4E35-B42F-5793F2A8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14C-8105-4A80-94E0-9E7EC70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6A3B-0D8B-459B-A968-C2B234CA0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ks and Int La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 may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سلاح هسته ای چیست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اریخچه ساخت و کاربرد سلاح هسته ا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سلاحهای هسته ای موجود در جه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وارض و پیامدهای کاربرد این سلاح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آگاه سازی، یک وظیفه همگان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سازمانهای مردم نها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وزه های صل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4T05:11:35Z</dcterms:created>
  <dc:creator>SHAHRIAR</dc:creator>
  <dc:description/>
  <dc:language>en-US</dc:language>
  <cp:lastModifiedBy>SHAHRIAR</cp:lastModifiedBy>
  <dcterms:modified xsi:type="dcterms:W3CDTF">2013-05-04T07:08:03Z</dcterms:modified>
  <cp:revision>1</cp:revision>
  <dc:subject/>
  <dc:title>Nuks and Int Law 9 may 2013</dc:title>
</cp:coreProperties>
</file>